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315200" cy="9601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553-A1E1-4299-B3A7-3862D908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4B0-7804-4476-BA0B-84B7ED2F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792-68A5-4622-B809-496295F2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D39-4039-4CA5-894C-FBF04002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361-D1F7-452C-806D-1ED9BD0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3F9-98D7-4075-9B71-45FEA47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0DC-390C-4108-A185-CC97D12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5F3-636A-4AEE-9864-1BD0FB3C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37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E4B-FC20-49B1-BCD6-EED94424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D19-8DC1-49F4-923F-0682505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3D2-B7F6-42B8-962F-F0E3C40D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821-9521-4433-9CCA-5733E27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4040"/>
            <a:ext cx="2317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7C69-8784-4EC7-8B56-3CA18FC3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457200"/>
            <a:ext cx="58071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Rockwell"/>
              </a:rPr>
              <a:t>Whose Fee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444680" cy="14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7238880"/>
            <a:ext cx="12412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62520" y="6705720"/>
            <a:ext cx="1139760" cy="116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10080" y="4495680"/>
            <a:ext cx="1349640" cy="15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1298520" cy="114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638680" y="7010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8458200"/>
            <a:ext cx="5121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Spring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2590920" y="350532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Rockwell Extra Bold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Rockwell Extra Bold"/>
              <a:ea typeface="Rockwell Extra Bold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048120" y="2057400"/>
            <a:ext cx="930240" cy="131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066680" y="4724280"/>
            <a:ext cx="1171800" cy="150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438280" y="6248520"/>
            <a:ext cx="11462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8290080"/>
            <a:ext cx="51213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Whose fe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2209680" y="761760"/>
            <a:ext cx="2971800" cy="31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Rockwell Extra Bold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Rockwell Extra Bold"/>
              <a:ea typeface="Rockwell Extra Bol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4545" r="0" b="10935"/>
          <a:stretch/>
        </p:blipFill>
        <p:spPr>
          <a:xfrm>
            <a:off x="609480" y="4724280"/>
            <a:ext cx="6399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3120" y="8290080"/>
            <a:ext cx="5121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Patti’s fe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32925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3080" y="1219320"/>
            <a:ext cx="6819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7:10:25Z</dcterms:created>
  <dc:creator>Patti Porto</dc:creator>
  <dc:description/>
  <dc:language>en-US</dc:language>
  <cp:lastModifiedBy>ppp</cp:lastModifiedBy>
  <dcterms:modified xsi:type="dcterms:W3CDTF">2004-04-20T23:50:10Z</dcterms:modified>
  <cp:revision>21</cp:revision>
  <dc:subject/>
  <dc:title>Slide 1</dc:title>
</cp:coreProperties>
</file>